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wmf" ContentType="image/x-wmf"/>
  <Override PartName="/ppt/media/image9.jpeg" ContentType="image/jpeg"/>
  <Override PartName="/ppt/media/image10.wmf" ContentType="image/x-wmf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CD2-1EAF-4D86-97AA-2453F97E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BC6-0674-4BE5-8818-C53E2384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0AB-0C5F-464E-94C2-F67B625E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101-F51B-41B1-BDF3-B0C716AC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DD4-2965-4136-A804-9583C5C3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A0012-7F0C-4D0B-852B-21288551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88569-1C8F-4B17-8851-75BEE3BF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09282-E88F-4586-A6EB-E5B9504B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E66CA-AF87-442B-ABB2-1DAC50B6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6F738-31E2-47D4-A22C-CB1C198E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4B7-7FC6-4CDB-B6C5-3D6840E2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CCF96-025C-4899-8862-A68FDBD6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14D09-0481-4FE5-943F-FD9E1AC5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EF8AF-EB02-4F2A-AC22-09DB5B4C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FE7E6-E427-4706-94DC-8D50020F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C04C8-0DF4-4D99-8715-49846CCB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96BA0-DD5D-477E-8630-7FE29820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02A55-B054-438F-A0D4-45785930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55561-96EE-4C55-B535-8B20B18B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7D4FB-E23E-4EE6-A4F5-07CD9BA8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B20F3-945D-4E2D-A7DB-AAA80AA9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ED9-4938-4B07-9E7C-B6215D73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23D03-190C-4C44-8195-344E92CF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B96C3-4097-4AC9-9C6E-2CD73E58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0731F-BA73-4628-960D-9EF3EF40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4AB38-B720-4A93-9B92-19D71627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1F267-A6E1-4D0C-B24E-BEF3D47E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64B6B-2D0C-4478-B3A3-0D1FF089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CD179-F7B4-464A-90A9-A0E53306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31F99-9CDB-4393-A3D1-4C149747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CED93-0067-448B-AA96-A8F5A4BD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0AC9D2-154A-4696-BA4F-00B76495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A27-0960-4F13-81E3-12AAF927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0FD4DA-B65D-4531-9851-86F05258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64405-9A9C-4DA2-AF0C-5CBC60C3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533840-BD73-434D-B625-D6A26E08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AF4F3-6D88-4110-A26D-65A1BC8A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4416E-9FCE-4518-AFE1-F1C331EA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FF093-76CD-4382-8D4D-84297ABA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12145-8116-4CD3-B246-ABBC8C30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F3F0C-7674-4FAB-940D-7B1462DD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0DAD1D-C199-4B8F-8FAE-CA0FF87F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32672E-7407-46FB-A892-3286A575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E1B-B825-4C61-BF00-8CF866CC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130895-0CF6-4867-AE37-41EA8459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B874C-8669-4E1C-80B0-B7E59DB0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5D43D-C1BA-4292-822D-316A9811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95DFFD-E793-4086-9D8A-E89C5B00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5A087-1E13-4D36-B940-2BCD47A9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4C9AF-B5EA-4AEF-ABEC-A2FC5743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A48E4-2369-41C9-8BC8-FDC70CCA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ED2E2C-184C-40B9-96F4-F2E4E2B6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EAF65-06FD-4246-88CD-992E16E6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4F23A-0AF3-4994-95CD-90EA2594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6E5-ACAE-4412-851C-8B56B22F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61E0D-6CE8-4A76-A0F7-4F5FB57A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99A21-BC47-41CF-B061-E708954F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98B5D-A644-4FE1-9A42-5B32FAED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A63A36-6926-411D-A65B-E422ECC5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CE7E2-8895-49FA-A065-E88D53B9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B7496-5B78-4AA6-888A-D99E7879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8DD39-8590-46D7-AA1A-6B4D3310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B735E-98FC-4ED8-9E47-AFFFA063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C679BF-E7DC-4B6F-9140-396E6F9C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0C427A-9C4F-4124-BCC2-67E9F84B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71AB-CF93-4C7A-9E14-0B4F00ED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A693B-E5D6-49AD-86FC-B6EAA244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ABE38-E07B-49BC-B911-1B48FA7B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784640-0491-4656-A15D-55230015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43099-D6F5-4E52-93C1-E72E1062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4117D-0673-4F6B-92E1-A2EF8DE7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BD6A8-CD92-4653-8BD1-7FFDDEDD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7366A-CEF6-4E32-A4B6-2F830661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17ED2-A351-4093-AB6F-D28577D4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0F031-604B-49BF-B50C-E6AC2490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5DA38-099C-45FC-9B28-EBB5DC91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7F7-33F9-49BE-BD0E-FE880AE7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EB107-D074-4670-A70A-A8D14E8E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B37DA-73E7-4642-B434-46BFEF5B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89376-F790-4844-B7D4-774D2066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CD821-C2AE-48D7-A954-25809CE1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6C5AD-73F7-4235-A9A6-775C011F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5FB5F-DC02-4EEA-8451-958EE5A6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91312-62C8-4501-928B-07D9A8F2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00200" y="6303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© Amcor | </a:t>
            </a:r>
            <a:fld id="{555EC642-962A-42EB-A3C8-FF2B24C12789}" type="datetime3"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29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104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rivate and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298440" y="6310440"/>
            <a:ext cx="40176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F68E-1933-4C41-BD20-4E360674705F}" type="slidenum"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AMCOR_POS_H_RGB_PC.jpg"/>
          <p:cNvPicPr/>
          <p:nvPr/>
        </p:nvPicPr>
        <p:blipFill>
          <a:blip r:embed="rId2"/>
          <a:stretch/>
        </p:blipFill>
        <p:spPr>
          <a:xfrm>
            <a:off x="7466040" y="6107040"/>
            <a:ext cx="1677960" cy="7509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AMCOR_POS_H_RGB_PC.jpg"/>
          <p:cNvPicPr/>
          <p:nvPr/>
        </p:nvPicPr>
        <p:blipFill>
          <a:blip r:embed="rId2"/>
          <a:stretch/>
        </p:blipFill>
        <p:spPr>
          <a:xfrm>
            <a:off x="7466040" y="6107040"/>
            <a:ext cx="1677960" cy="750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32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ID20010_Fibre WRS PPT Cover Blocks_v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ftr" idx="4"/>
          </p:nvPr>
        </p:nvSpPr>
        <p:spPr>
          <a:xfrm>
            <a:off x="3124080" y="63104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rivate and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AMCOR_POS_H_RGB_PC.jpg"/>
          <p:cNvPicPr/>
          <p:nvPr/>
        </p:nvPicPr>
        <p:blipFill>
          <a:blip r:embed="rId2"/>
          <a:stretch/>
        </p:blipFill>
        <p:spPr>
          <a:xfrm>
            <a:off x="7466040" y="6107040"/>
            <a:ext cx="1677960" cy="750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3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ldNum" idx="5"/>
          </p:nvPr>
        </p:nvSpPr>
        <p:spPr>
          <a:xfrm>
            <a:off x="179280" y="6453000"/>
            <a:ext cx="401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D415-C10B-495C-B85F-BAE0C265792D}" type="slidenum"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700200" y="6303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© Amcor | </a:t>
            </a:r>
            <a:fld id="{0F5506B9-D46C-4C01-BAB4-43C6F3139185}" type="datetime3"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29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3104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rivate and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AMCOR_POS_H_RGB_PC.jpg"/>
          <p:cNvPicPr/>
          <p:nvPr/>
        </p:nvPicPr>
        <p:blipFill>
          <a:blip r:embed="rId2"/>
          <a:stretch/>
        </p:blipFill>
        <p:spPr>
          <a:xfrm>
            <a:off x="7466040" y="6107040"/>
            <a:ext cx="1677960" cy="750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3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302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ldNum" idx="8"/>
          </p:nvPr>
        </p:nvSpPr>
        <p:spPr>
          <a:xfrm>
            <a:off x="179280" y="6453000"/>
            <a:ext cx="401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BA87-8EB9-491A-A407-0E8E0CA68964}" type="slidenum"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700200" y="6303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© Amcor | </a:t>
            </a:r>
            <a:fld id="{F8848DEA-F668-4B94-8B7B-B84987B4C9C4}" type="datetime3"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29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0"/>
          </p:nvPr>
        </p:nvSpPr>
        <p:spPr>
          <a:xfrm>
            <a:off x="3124080" y="63104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rivate and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AMCOR_POS_H_RGB_PC.jpg"/>
          <p:cNvPicPr/>
          <p:nvPr/>
        </p:nvPicPr>
        <p:blipFill>
          <a:blip r:embed="rId2"/>
          <a:stretch/>
        </p:blipFill>
        <p:spPr>
          <a:xfrm>
            <a:off x="7466040" y="6107040"/>
            <a:ext cx="1677960" cy="750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30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sldNum" idx="11"/>
          </p:nvPr>
        </p:nvSpPr>
        <p:spPr>
          <a:xfrm>
            <a:off x="179280" y="6453000"/>
            <a:ext cx="401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C445-4FD7-4258-A91E-3DF152273641}" type="slidenum"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2"/>
          </p:nvPr>
        </p:nvSpPr>
        <p:spPr>
          <a:xfrm>
            <a:off x="700200" y="6303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© Amcor | </a:t>
            </a:r>
            <a:fld id="{13F5C5DD-619D-430E-87B4-1C1C8C0FF793}" type="datetime3"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29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3"/>
          </p:nvPr>
        </p:nvSpPr>
        <p:spPr>
          <a:xfrm>
            <a:off x="3124080" y="63104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rivate and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AMCOR_POS_H_RGB_PC.jpg"/>
          <p:cNvPicPr/>
          <p:nvPr/>
        </p:nvPicPr>
        <p:blipFill>
          <a:blip r:embed="rId2"/>
          <a:stretch/>
        </p:blipFill>
        <p:spPr>
          <a:xfrm>
            <a:off x="7466040" y="6107040"/>
            <a:ext cx="167796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32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302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sldNum" idx="14"/>
          </p:nvPr>
        </p:nvSpPr>
        <p:spPr>
          <a:xfrm>
            <a:off x="179280" y="6453000"/>
            <a:ext cx="401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3D95-920A-4B09-9E76-A273DCE2F6F9}" type="slidenum"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5"/>
          </p:nvPr>
        </p:nvSpPr>
        <p:spPr>
          <a:xfrm>
            <a:off x="700200" y="6303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© Amcor | </a:t>
            </a:r>
            <a:fld id="{30332639-86F5-48CE-9A20-E4331645BBF7}" type="datetime3"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29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6"/>
          </p:nvPr>
        </p:nvSpPr>
        <p:spPr>
          <a:xfrm>
            <a:off x="3124080" y="63104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rivate and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6" descr="AMCOR_POS_H_RGB_PC.jpg"/>
          <p:cNvPicPr/>
          <p:nvPr/>
        </p:nvPicPr>
        <p:blipFill>
          <a:blip r:embed="rId2"/>
          <a:stretch/>
        </p:blipFill>
        <p:spPr>
          <a:xfrm>
            <a:off x="7466040" y="6107040"/>
            <a:ext cx="1677960" cy="750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32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sldNum" idx="17"/>
          </p:nvPr>
        </p:nvSpPr>
        <p:spPr>
          <a:xfrm>
            <a:off x="179280" y="6453000"/>
            <a:ext cx="401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3F8E-065A-41E0-93C6-F9F8C05306A2}" type="slidenum"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8"/>
          </p:nvPr>
        </p:nvSpPr>
        <p:spPr>
          <a:xfrm>
            <a:off x="700200" y="6303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© Amcor | </a:t>
            </a:r>
            <a:fld id="{4E0F98DD-498F-4888-8E3C-3829EBE5CA2B}" type="datetime3"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29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9"/>
          </p:nvPr>
        </p:nvSpPr>
        <p:spPr>
          <a:xfrm>
            <a:off x="3124080" y="63104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rivate and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6" descr="AMCOR_POS_H_RGB_PC.jpg"/>
          <p:cNvPicPr/>
          <p:nvPr/>
        </p:nvPicPr>
        <p:blipFill>
          <a:blip r:embed="rId2"/>
          <a:stretch/>
        </p:blipFill>
        <p:spPr>
          <a:xfrm>
            <a:off x="7466040" y="6107040"/>
            <a:ext cx="1677960" cy="750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32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dt" idx="20"/>
          </p:nvPr>
        </p:nvSpPr>
        <p:spPr>
          <a:xfrm>
            <a:off x="700200" y="6303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5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4250"/>
                </a:solidFill>
                <a:latin typeface="Times New Roman"/>
                <a:ea typeface="Arial"/>
              </a:rPr>
              <a:t>Confidential and Proprietary Information of © Amcor 2012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Num" idx="21"/>
          </p:nvPr>
        </p:nvSpPr>
        <p:spPr>
          <a:xfrm>
            <a:off x="298440" y="6310440"/>
            <a:ext cx="40176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425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C437-DD01-4F41-B866-2A949ED6DDDF}" type="slidenum">
              <a:rPr b="0" lang="en-AU" sz="900" spc="-1" strike="noStrike">
                <a:solidFill>
                  <a:srgbClr val="00425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22"/>
          </p:nvPr>
        </p:nvSpPr>
        <p:spPr>
          <a:xfrm>
            <a:off x="3124080" y="63104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400"/>
              </a:spcBef>
              <a:buClr>
                <a:srgbClr val="0042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25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  <a:p>
            <a:pPr lvl="1" marL="538200" indent="-179280">
              <a:spcBef>
                <a:spcPts val="400"/>
              </a:spcBef>
              <a:buClr>
                <a:srgbClr val="1e9d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25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  <a:p>
            <a:pPr lvl="2" marL="896760" indent="-179280">
              <a:spcBef>
                <a:spcPts val="400"/>
              </a:spcBef>
              <a:buClr>
                <a:srgbClr val="1e9d8b"/>
              </a:buClr>
              <a:buFont typeface="AmcorPro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25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  <a:p>
            <a:pPr lvl="3" marL="1255680" indent="-179280">
              <a:spcBef>
                <a:spcPts val="400"/>
              </a:spcBef>
              <a:buClr>
                <a:srgbClr val="1e9d8b"/>
              </a:buClr>
              <a:buFont typeface="AmcorPro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25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  <a:p>
            <a:pPr lvl="4" marL="1614600" indent="-179640">
              <a:spcBef>
                <a:spcPts val="400"/>
              </a:spcBef>
              <a:buClr>
                <a:srgbClr val="1e9d8b"/>
              </a:buClr>
              <a:buFont typeface="AmcorPro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25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  <a:p>
            <a:pPr lvl="5" marL="1614600" indent="-179640">
              <a:spcBef>
                <a:spcPts val="400"/>
              </a:spcBef>
              <a:buClr>
                <a:srgbClr val="004250"/>
              </a:buClr>
              <a:buFont typeface="AmcorPro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25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  <a:p>
            <a:pPr lvl="6" marL="1614600" indent="-179640">
              <a:spcBef>
                <a:spcPts val="400"/>
              </a:spcBef>
              <a:buClr>
                <a:srgbClr val="004250"/>
              </a:buClr>
              <a:buFont typeface="AmcorPro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25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42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51120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a1de"/>
                </a:solidFill>
                <a:latin typeface="Arial"/>
              </a:rPr>
              <a:t>PROCESS STE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298440" y="6310440"/>
            <a:ext cx="4017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65CE-E226-4A50-A5B6-DCD5FF034AFE}" type="slidenum">
              <a:rPr b="0" lang="en-AU" sz="900" spc="-1" strike="noStrike">
                <a:solidFill>
                  <a:srgbClr val="00425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4250"/>
              </a:solidFill>
              <a:latin typeface="Arial"/>
            </a:endParaRPr>
          </a:p>
        </p:txBody>
      </p:sp>
      <p:pic>
        <p:nvPicPr>
          <p:cNvPr id="334" name="Picture 7" descr=""/>
          <p:cNvPicPr/>
          <p:nvPr/>
        </p:nvPicPr>
        <p:blipFill>
          <a:blip r:embed="rId1"/>
          <a:stretch/>
        </p:blipFill>
        <p:spPr>
          <a:xfrm>
            <a:off x="7353360" y="5638680"/>
            <a:ext cx="1790640" cy="1219320"/>
          </a:xfrm>
          <a:prstGeom prst="rect">
            <a:avLst/>
          </a:prstGeom>
          <a:ln w="0">
            <a:noFill/>
          </a:ln>
        </p:spPr>
      </p:pic>
      <p:sp>
        <p:nvSpPr>
          <p:cNvPr id="335" name="Oval 6"/>
          <p:cNvSpPr/>
          <p:nvPr/>
        </p:nvSpPr>
        <p:spPr>
          <a:xfrm>
            <a:off x="3419640" y="3068640"/>
            <a:ext cx="1728720" cy="15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35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36" name="TextBox 7"/>
          <p:cNvSpPr/>
          <p:nvPr/>
        </p:nvSpPr>
        <p:spPr>
          <a:xfrm>
            <a:off x="3564000" y="357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4250"/>
                </a:solidFill>
                <a:latin typeface="Arial"/>
              </a:rPr>
              <a:t>Outcome</a:t>
            </a:r>
            <a:endParaRPr b="0" lang="en-US" sz="2400" spc="-1" strike="noStrike">
              <a:solidFill>
                <a:srgbClr val="004250"/>
              </a:solidFill>
              <a:latin typeface="Arial"/>
            </a:endParaRPr>
          </a:p>
        </p:txBody>
      </p:sp>
      <p:cxnSp>
        <p:nvCxnSpPr>
          <p:cNvPr id="337" name="Straight Arrow Connector 11"/>
          <p:cNvCxnSpPr/>
          <p:nvPr/>
        </p:nvCxnSpPr>
        <p:spPr>
          <a:xfrm flipH="1">
            <a:off x="5103000" y="1715760"/>
            <a:ext cx="2421720" cy="1678680"/>
          </a:xfrm>
          <a:prstGeom prst="straightConnector1">
            <a:avLst/>
          </a:prstGeom>
          <a:ln w="76320">
            <a:solidFill>
              <a:srgbClr val="58a618"/>
            </a:solidFill>
            <a:miter/>
            <a:tailEnd len="med" type="arrow" w="med"/>
          </a:ln>
        </p:spPr>
      </p:cxnSp>
      <p:cxnSp>
        <p:nvCxnSpPr>
          <p:cNvPr id="338" name="Straight Arrow Connector 13"/>
          <p:cNvCxnSpPr/>
          <p:nvPr/>
        </p:nvCxnSpPr>
        <p:spPr>
          <a:xfrm flipH="1" flipV="1">
            <a:off x="5148360" y="4220280"/>
            <a:ext cx="2270520" cy="1404360"/>
          </a:xfrm>
          <a:prstGeom prst="straightConnector1">
            <a:avLst/>
          </a:prstGeom>
          <a:ln w="76320">
            <a:solidFill>
              <a:srgbClr val="58a618"/>
            </a:solidFill>
            <a:miter/>
            <a:tailEnd len="med" type="arrow" w="med"/>
          </a:ln>
        </p:spPr>
      </p:cxnSp>
      <p:cxnSp>
        <p:nvCxnSpPr>
          <p:cNvPr id="339" name="Straight Arrow Connector 15"/>
          <p:cNvCxnSpPr/>
          <p:nvPr/>
        </p:nvCxnSpPr>
        <p:spPr>
          <a:xfrm flipV="1">
            <a:off x="4284360" y="4652640"/>
            <a:ext cx="1080" cy="1945440"/>
          </a:xfrm>
          <a:prstGeom prst="straightConnector1">
            <a:avLst/>
          </a:prstGeom>
          <a:ln w="76320">
            <a:solidFill>
              <a:srgbClr val="58a618"/>
            </a:solidFill>
            <a:miter/>
            <a:tailEnd len="med" type="arrow" w="med"/>
          </a:ln>
        </p:spPr>
      </p:cxnSp>
      <p:cxnSp>
        <p:nvCxnSpPr>
          <p:cNvPr id="340" name="Straight Arrow Connector 17"/>
          <p:cNvCxnSpPr/>
          <p:nvPr/>
        </p:nvCxnSpPr>
        <p:spPr>
          <a:xfrm flipV="1">
            <a:off x="973080" y="4295520"/>
            <a:ext cx="2520000" cy="1512000"/>
          </a:xfrm>
          <a:prstGeom prst="straightConnector1">
            <a:avLst/>
          </a:prstGeom>
          <a:ln w="76320">
            <a:solidFill>
              <a:srgbClr val="58a618"/>
            </a:solidFill>
            <a:miter/>
            <a:tailEnd len="med" type="arrow" w="med"/>
          </a:ln>
        </p:spPr>
      </p:cxnSp>
      <p:cxnSp>
        <p:nvCxnSpPr>
          <p:cNvPr id="341" name="Straight Arrow Connector 19"/>
          <p:cNvCxnSpPr/>
          <p:nvPr/>
        </p:nvCxnSpPr>
        <p:spPr>
          <a:xfrm>
            <a:off x="755640" y="1628640"/>
            <a:ext cx="2737080" cy="1656720"/>
          </a:xfrm>
          <a:prstGeom prst="straightConnector1">
            <a:avLst/>
          </a:prstGeom>
          <a:ln w="76320">
            <a:solidFill>
              <a:srgbClr val="58a618"/>
            </a:solidFill>
            <a:miter/>
            <a:tailEnd len="med" type="arrow" w="med"/>
          </a:ln>
        </p:spPr>
      </p:cxnSp>
      <p:sp>
        <p:nvSpPr>
          <p:cNvPr id="342" name="TextBox 20"/>
          <p:cNvSpPr/>
          <p:nvPr/>
        </p:nvSpPr>
        <p:spPr>
          <a:xfrm>
            <a:off x="3419640" y="1484280"/>
            <a:ext cx="187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4250"/>
                </a:solidFill>
                <a:latin typeface="Arial"/>
              </a:rPr>
              <a:t>Process Step 5</a:t>
            </a:r>
            <a:endParaRPr b="0" lang="en-US" sz="1200" spc="-1" strike="noStrike">
              <a:solidFill>
                <a:srgbClr val="00425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4250"/>
                </a:solidFill>
                <a:latin typeface="Arial"/>
              </a:rPr>
              <a:t>REPORT</a:t>
            </a:r>
            <a:endParaRPr b="0" lang="en-US" sz="12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43" name="Rectangle 21"/>
          <p:cNvSpPr/>
          <p:nvPr/>
        </p:nvSpPr>
        <p:spPr>
          <a:xfrm>
            <a:off x="5007960" y="5732640"/>
            <a:ext cx="121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4250"/>
                </a:solidFill>
                <a:latin typeface="Arial"/>
              </a:rPr>
              <a:t>Process Step 2</a:t>
            </a:r>
            <a:endParaRPr b="0" lang="en-US" sz="1200" spc="-1" strike="noStrike">
              <a:solidFill>
                <a:srgbClr val="00425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425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44" name="Rectangle 22"/>
          <p:cNvSpPr/>
          <p:nvPr/>
        </p:nvSpPr>
        <p:spPr>
          <a:xfrm>
            <a:off x="6808320" y="3357720"/>
            <a:ext cx="121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4250"/>
                </a:solidFill>
                <a:latin typeface="Arial"/>
              </a:rPr>
              <a:t>Process Step 1</a:t>
            </a:r>
            <a:endParaRPr b="0" lang="en-US" sz="1200" spc="-1" strike="noStrike">
              <a:solidFill>
                <a:srgbClr val="00425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4250"/>
                </a:solidFill>
                <a:latin typeface="Arial"/>
              </a:rPr>
              <a:t>Collect Data</a:t>
            </a:r>
            <a:endParaRPr b="0" lang="en-US" sz="12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45" name="Rectangle 23"/>
          <p:cNvSpPr/>
          <p:nvPr/>
        </p:nvSpPr>
        <p:spPr>
          <a:xfrm>
            <a:off x="2055240" y="5732640"/>
            <a:ext cx="121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4250"/>
                </a:solidFill>
                <a:latin typeface="Arial"/>
              </a:rPr>
              <a:t>Process Step 3</a:t>
            </a:r>
            <a:endParaRPr b="0" lang="en-US" sz="1200" spc="-1" strike="noStrike">
              <a:solidFill>
                <a:srgbClr val="00425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425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46" name="Rectangle 24"/>
          <p:cNvSpPr/>
          <p:nvPr/>
        </p:nvSpPr>
        <p:spPr>
          <a:xfrm>
            <a:off x="471600" y="3357720"/>
            <a:ext cx="121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4250"/>
                </a:solidFill>
                <a:latin typeface="Arial"/>
              </a:rPr>
              <a:t>Process Step 4</a:t>
            </a:r>
            <a:endParaRPr b="0" lang="en-US" sz="1200" spc="-1" strike="noStrike">
              <a:solidFill>
                <a:srgbClr val="00425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4250"/>
                </a:solidFill>
                <a:latin typeface="Arial"/>
              </a:rPr>
              <a:t>Verification</a:t>
            </a:r>
            <a:endParaRPr b="0" lang="en-US" sz="1200" spc="-1" strike="noStrike">
              <a:solidFill>
                <a:srgbClr val="004250"/>
              </a:solidFill>
              <a:latin typeface="Arial"/>
            </a:endParaRPr>
          </a:p>
        </p:txBody>
      </p:sp>
      <p:pic>
        <p:nvPicPr>
          <p:cNvPr id="347" name="Picture 7" descr="C:\Program Files\Microsoft Office\MEDIA\CAGCAT10\j0205466.wmf"/>
          <p:cNvPicPr/>
          <p:nvPr/>
        </p:nvPicPr>
        <p:blipFill>
          <a:blip r:embed="rId2"/>
          <a:stretch/>
        </p:blipFill>
        <p:spPr>
          <a:xfrm>
            <a:off x="5364000" y="3357720"/>
            <a:ext cx="692280" cy="688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C:\Documents and Settings\CRAIG.MADDEN\Local Settings\Temporary Internet Files\Content.IE5\EDL3EM7O\MC900439343[1].jpg"/>
          <p:cNvPicPr/>
          <p:nvPr/>
        </p:nvPicPr>
        <p:blipFill>
          <a:blip r:embed="rId3"/>
          <a:stretch/>
        </p:blipFill>
        <p:spPr>
          <a:xfrm>
            <a:off x="4716360" y="4653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C:\Documents and Settings\CRAIG.MADDEN\Local Settings\Temporary Internet Files\Content.IE5\52E1Z4YC\MC900442072[1].wmf"/>
          <p:cNvPicPr/>
          <p:nvPr/>
        </p:nvPicPr>
        <p:blipFill>
          <a:blip r:embed="rId4"/>
          <a:stretch/>
        </p:blipFill>
        <p:spPr>
          <a:xfrm>
            <a:off x="3132000" y="4724280"/>
            <a:ext cx="662040" cy="473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C:\Documents and Settings\CRAIG.MADDEN\Local Settings\Temporary Internet Files\Content.IE5\52E1Z4YC\MC900441310[1].png"/>
          <p:cNvPicPr/>
          <p:nvPr/>
        </p:nvPicPr>
        <p:blipFill>
          <a:blip r:embed="rId5"/>
          <a:stretch/>
        </p:blipFill>
        <p:spPr>
          <a:xfrm>
            <a:off x="2268360" y="3357720"/>
            <a:ext cx="938520" cy="938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3" descr="C:\Documents and Settings\CRAIG.MADDEN\Local Settings\Temporary Internet Files\Content.IE5\M3388ND2\MC900439818[1].png"/>
          <p:cNvPicPr/>
          <p:nvPr/>
        </p:nvPicPr>
        <p:blipFill>
          <a:blip r:embed="rId6"/>
          <a:stretch/>
        </p:blipFill>
        <p:spPr>
          <a:xfrm>
            <a:off x="3924360" y="2205000"/>
            <a:ext cx="795240" cy="795240"/>
          </a:xfrm>
          <a:prstGeom prst="rect">
            <a:avLst/>
          </a:prstGeom>
          <a:ln w="0">
            <a:noFill/>
          </a:ln>
        </p:spPr>
      </p:pic>
      <p:sp>
        <p:nvSpPr>
          <p:cNvPr id="352" name="TextBox 32"/>
          <p:cNvSpPr/>
          <p:nvPr/>
        </p:nvSpPr>
        <p:spPr>
          <a:xfrm>
            <a:off x="3924360" y="335772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4250"/>
                </a:solidFill>
                <a:latin typeface="Arial"/>
              </a:rPr>
              <a:t>Short Term</a:t>
            </a:r>
            <a:endParaRPr b="0" lang="en-US" sz="8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53" name="TextBox 33"/>
          <p:cNvSpPr/>
          <p:nvPr/>
        </p:nvSpPr>
        <p:spPr>
          <a:xfrm>
            <a:off x="3924360" y="407664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4250"/>
                </a:solidFill>
                <a:latin typeface="Arial"/>
              </a:rPr>
              <a:t>Long Term</a:t>
            </a:r>
            <a:endParaRPr b="0" lang="en-US" sz="800" spc="-1" strike="noStrike">
              <a:solidFill>
                <a:srgbClr val="004250"/>
              </a:solidFill>
              <a:latin typeface="Arial"/>
            </a:endParaRPr>
          </a:p>
        </p:txBody>
      </p:sp>
      <p:sp>
        <p:nvSpPr>
          <p:cNvPr id="354" name="Date Placeholder 24"/>
          <p:cNvSpPr/>
          <p:nvPr/>
        </p:nvSpPr>
        <p:spPr>
          <a:xfrm>
            <a:off x="700200" y="6425280"/>
            <a:ext cx="2133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4250"/>
                </a:solidFill>
                <a:latin typeface="Arial"/>
                <a:ea typeface="Arial"/>
              </a:rPr>
              <a:t>Confidential and Proprietary information</a:t>
            </a:r>
            <a:endParaRPr b="0" lang="en-US" sz="800" spc="-1" strike="noStrike">
              <a:solidFill>
                <a:srgbClr val="0042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4250"/>
                </a:solidFill>
                <a:latin typeface="Arial"/>
                <a:ea typeface="Arial"/>
              </a:rPr>
              <a:t>of Fossick Consultancy  2012</a:t>
            </a:r>
            <a:endParaRPr b="0" lang="en-US" sz="800" spc="-1" strike="noStrike">
              <a:solidFill>
                <a:srgbClr val="0042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5:11:02Z</dcterms:created>
  <dc:creator>chris.davis</dc:creator>
  <dc:description/>
  <dc:language>en-US</dc:language>
  <cp:lastModifiedBy>Craig</cp:lastModifiedBy>
  <cp:lastPrinted>2010-02-17T06:34:07Z</cp:lastPrinted>
  <dcterms:modified xsi:type="dcterms:W3CDTF">2014-01-15T07:08:34Z</dcterms:modified>
  <cp:revision>131</cp:revision>
  <dc:subject/>
  <dc:title>Slide 1</dc:title>
</cp:coreProperties>
</file>